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E615-9545-4AA1-B67A-7F0AD2FA7E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5E0-47AD-4A25-9B53-87828739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640-784D-425D-BBC5-C9F492DF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0D1-C54C-4BFD-9AF8-36F6337E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C68-9BE8-486C-B56A-6A735E57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B5D-F3A6-4AAD-9830-15A694F5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A64-2B7A-4A9A-B56C-CD39514C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E3B-BC8D-4870-B8AF-5B5616A9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47B-6B4A-4675-9A01-FC27A050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E432-A003-4527-9915-C984781E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78E-EF3C-4DA8-A2E7-966750C5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8819-4174-49B1-A60D-6D09FF02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DBE1-D060-47EA-9E84-3C3F460A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D418-D04D-4B8F-AB38-3C719712D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EDIEVAL THOU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ilan%20cathedral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24480" cy="55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main directions in architecture - Romanesque and Goth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n in cathed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igion is complete outlet for artistic and emotional outpourings of early medieval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typical%20basilica%20plan" descr=""/>
          <p:cNvPicPr/>
          <p:nvPr/>
        </p:nvPicPr>
        <p:blipFill>
          <a:blip r:embed="rId1"/>
          <a:stretch/>
        </p:blipFill>
        <p:spPr>
          <a:xfrm>
            <a:off x="4572000" y="1593720"/>
            <a:ext cx="4572000" cy="3110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952880" y="49528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nse and time to build cathed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 $50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lgrim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3276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manes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lier building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rved or created at Clu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cker walls, stone barrel vault, small windows to support ceiling w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romanesque%20nave" descr=""/>
          <p:cNvPicPr/>
          <p:nvPr/>
        </p:nvPicPr>
        <p:blipFill>
          <a:blip r:embed="rId1"/>
          <a:stretch/>
        </p:blipFill>
        <p:spPr>
          <a:xfrm>
            <a:off x="4106880" y="0"/>
            <a:ext cx="503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t.%20Sernin%20distance" descr=""/>
          <p:cNvPicPr/>
          <p:nvPr/>
        </p:nvPicPr>
        <p:blipFill>
          <a:blip r:embed="rId1"/>
          <a:stretch/>
        </p:blipFill>
        <p:spPr>
          <a:xfrm>
            <a:off x="0" y="4680"/>
            <a:ext cx="5621400" cy="5613480"/>
          </a:xfrm>
          <a:prstGeom prst="rect">
            <a:avLst/>
          </a:prstGeom>
          <a:ln w="0">
            <a:noFill/>
          </a:ln>
        </p:spPr>
      </p:pic>
      <p:pic>
        <p:nvPicPr>
          <p:cNvPr id="76" name="St.%20Sernin,%20nave" descr=""/>
          <p:cNvPicPr/>
          <p:nvPr/>
        </p:nvPicPr>
        <p:blipFill>
          <a:blip r:embed="rId2"/>
          <a:stretch/>
        </p:blipFill>
        <p:spPr>
          <a:xfrm>
            <a:off x="5996160" y="2057400"/>
            <a:ext cx="3147840" cy="4800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60958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. Sernin Cathed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. Sernin n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4114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th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ve is wider than Romanes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ed 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ller walls, thinner 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ls thinner and more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ying butt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rgoyles,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8484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487760" y="0"/>
            <a:ext cx="465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09880" y="0"/>
            <a:ext cx="515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ypical%20basilica%20parts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85" name="typical%20basilica%20plan3" descr=""/>
          <p:cNvPicPr/>
          <p:nvPr/>
        </p:nvPicPr>
        <p:blipFill>
          <a:blip r:embed="rId2"/>
          <a:stretch/>
        </p:blipFill>
        <p:spPr>
          <a:xfrm>
            <a:off x="3886200" y="3763800"/>
            <a:ext cx="52578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ose%20window" descr=""/>
          <p:cNvPicPr/>
          <p:nvPr/>
        </p:nvPicPr>
        <p:blipFill>
          <a:blip r:embed="rId1"/>
          <a:stretch/>
        </p:blipFill>
        <p:spPr>
          <a:xfrm>
            <a:off x="4778280" y="0"/>
            <a:ext cx="43657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stained%20glass" descr=""/>
          <p:cNvPicPr/>
          <p:nvPr/>
        </p:nvPicPr>
        <p:blipFill>
          <a:blip r:embed="rId2"/>
          <a:stretch/>
        </p:blipFill>
        <p:spPr>
          <a:xfrm>
            <a:off x="-71280" y="685800"/>
            <a:ext cx="4863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gargoyles" descr=""/>
          <p:cNvPicPr/>
          <p:nvPr/>
        </p:nvPicPr>
        <p:blipFill>
          <a:blip r:embed="rId1"/>
          <a:stretch/>
        </p:blipFill>
        <p:spPr>
          <a:xfrm>
            <a:off x="0" y="0"/>
            <a:ext cx="458136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gargoyles2" descr=""/>
          <p:cNvPicPr/>
          <p:nvPr/>
        </p:nvPicPr>
        <p:blipFill>
          <a:blip r:embed="rId2"/>
          <a:stretch/>
        </p:blipFill>
        <p:spPr>
          <a:xfrm>
            <a:off x="4916520" y="0"/>
            <a:ext cx="422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rgence of vernacular printings - illuminated manuscri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pic poems transmitted orally are now written -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 lite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line in use of Latin - not even all priests can read it (but they are “reading” the Bible each wee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oubadours and courtly love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s knightly duties - chival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u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terature and Court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terature and Court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ousting1" descr=""/>
          <p:cNvPicPr/>
          <p:nvPr/>
        </p:nvPicPr>
        <p:blipFill>
          <a:blip r:embed="rId1"/>
          <a:stretch/>
        </p:blipFill>
        <p:spPr>
          <a:xfrm>
            <a:off x="0" y="1828800"/>
            <a:ext cx="4187880" cy="5029200"/>
          </a:xfrm>
          <a:prstGeom prst="rect">
            <a:avLst/>
          </a:prstGeom>
          <a:ln w="0">
            <a:noFill/>
          </a:ln>
        </p:spPr>
      </p:pic>
      <p:pic>
        <p:nvPicPr>
          <p:cNvPr id="94" name="jousting2" descr=""/>
          <p:cNvPicPr/>
          <p:nvPr/>
        </p:nvPicPr>
        <p:blipFill>
          <a:blip r:embed="rId2"/>
          <a:stretch/>
        </p:blipFill>
        <p:spPr>
          <a:xfrm>
            <a:off x="4680000" y="1905120"/>
            <a:ext cx="446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rgence of Univer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nciling God and R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. Thomas 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erature and court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Main Concepts in Medieval Thou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dam%20creating%20the%20animals" descr=""/>
          <p:cNvPicPr/>
          <p:nvPr/>
        </p:nvPicPr>
        <p:blipFill>
          <a:blip r:embed="rId1"/>
          <a:stretch/>
        </p:blipFill>
        <p:spPr>
          <a:xfrm>
            <a:off x="4776840" y="1219320"/>
            <a:ext cx="43671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luence of noble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 poets to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ve of a “good woman” would make a better kn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zy demands on kn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the often, dress neatly, ability to carry on a civilized conversation, compose poetry, play instr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ying to get knights to do things besides carve up enem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terature and Court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5960" y="121896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te Alighieri (1265-132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e Divine Come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andon all hope, ye who ent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ry of his view of life, and how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fe was viewed in his time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s the hierarchy in life and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cles of h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nth circle is ice - symbolizing absence of God’s love, weight of sin holds men down, Satan as a three headed beast (opposite of Go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terature and Court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72120" y="1295280"/>
            <a:ext cx="30718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Delacroix_barque_of_Dante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7720" y="22093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rge during the 1200s - why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d of invasions by Vikings, Magyars and Musl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 stability from larger king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val of trade and growth of lite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ct with Byzantium and Islamic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Rise of Univers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38080" y="220932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s and early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w spontaneously - listen to a tea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in Italy and expand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ild for instructors and students (male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st high 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ands on i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es for poorly attended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Rise of Univers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life - “very carefre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classes a week is full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t books (no printing until 145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 calle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iviu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rammar, rhetoric, logic), in 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 calle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quadrivi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math, geometry, astronomy, music and Aristotle) in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more years for Ph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der all over Europe attending univer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nching/dri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Rise of Univers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believe, that I may know.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t. August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olasticism - rational, based entirely on lo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to solve a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ult bible and/or church wri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logic of Aristo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sh live in water. A shark is a fish. Therefore sharks live in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T Fish eat other fish. I eat fish. Therefore I am a f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ensory input - senses are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must forsake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Reconciling God and Rea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oubting we inquire, by inquiring we discover truth.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Peter Abel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rpose of logic is to support and advance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totle emerges - revered for focus on lo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scientific method invalidates h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urch bans his works - “authorized” ver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Reconciling God and Rea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20570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nciled doctrines of the church and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des dualism of St. Augustine is wrong - body is necessary to gain earthly knowledge - science is suddenly legitim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St. Thomas Aqui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european%20thought" descr=""/>
          <p:cNvPicPr/>
          <p:nvPr/>
        </p:nvPicPr>
        <p:blipFill>
          <a:blip r:embed="rId1"/>
          <a:stretch/>
        </p:blipFill>
        <p:spPr>
          <a:xfrm>
            <a:off x="3886200" y="2057400"/>
            <a:ext cx="52578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dea exists before merged with an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 can think of table while looking at a tr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dea exists as part of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 plank still isn’t a t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a exists after object is g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lank is part of a table, no longer a pla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ings move toward a higher plane (Go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all things move, God is “unmoved move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St. Thomas Aqui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san Gregory</cp:lastModifiedBy>
  <dcterms:modified xsi:type="dcterms:W3CDTF">2007-09-13T04:31:31Z</dcterms:modified>
  <cp:revision>1</cp:revision>
  <dc:subject/>
  <dc:title>MEDIEVAL THOUGHT</dc:title>
</cp:coreProperties>
</file>